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89AB-92DC-42FD-9AC7-598CB4DAF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482-EBB1-470E-A587-4BFDB497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1A39-14DE-4BA3-805B-D76F85EB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4FB-0B78-4D9D-B8D1-759F06E06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6591-8B6F-4FD1-A2A3-C3F96CD4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C6AA-6C23-4AB4-B828-E1CA72B9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DAED-8192-4311-94C1-FFEDA67A4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FD3B-9EE2-4FB7-9964-25AE2556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238C-924D-4A51-9C7F-79313B6A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A6AF-4444-4BFD-AE85-3B6095B2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46AEB-8FF6-4BE2-A4D4-01FD5FC3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F8B-6249-4898-89C6-42069947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20E-8910-4A7D-9EFC-D2704132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33EE-00E7-4F36-9A0B-DB69E4EA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A3B6-36B9-4F2A-85AA-D6D6E763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0EED-7A52-4DAB-884F-1015B50F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5E73-2486-4D91-AAB6-38CDCFD1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5B2B3-1CCC-4A10-9213-D84F974C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7A4D-0EFF-48CD-9C1A-A47A8163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26DE-F5DC-45F8-BF3B-CC1D7AE1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15DF-4195-4689-8A52-0CD3A936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5005A-6957-4895-9857-1A65E63B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88C-9778-42FF-AEFB-4AB9A186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84CA-27BE-459A-AC93-6C4E32E1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5E7D-9851-411D-B66E-D6242162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A8EA1-26F6-4A21-BAD6-120C603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EEA90-5F39-42A8-9BCB-AD7D525B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DACE2-2F4F-4461-9F58-6D38EA3A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6108A-42AB-4568-AC3C-6985FC85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C76A-9B88-4740-B359-3BB5212D8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06B0F-84F6-459D-B17C-616C217F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40D86-B9BC-4D7B-A675-7CA2A39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9764-4ED0-4A08-B36F-3D325F9E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3108-1E25-4060-A0DB-6B6E67F8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E79ED-E948-48A0-8116-72988CA6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0E504-10E9-4147-98E7-42ED7641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41DCB-A0B8-4E37-BB3C-371BAD5D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F25A9-5FEF-4F74-9620-580A2BB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F44DB-05C2-4323-9090-F8F3DDE2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1EC7B-696E-4182-B494-BBA8227E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2D1EF-1409-4431-9AD4-61A26F49A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049B-CD91-43AD-B24A-AB743762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A630F-40B2-45FE-A3DA-692CF324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1B74-39AD-40A3-B80D-A688AC8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183-E821-4196-A3A7-1F11E665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AEF-200D-4F75-B74C-F2B1360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FD4-A020-4482-AA74-565B15AF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DAC-D27A-48A7-8566-4A8849F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0544-F902-4FE7-BB6A-D591D5DFAB9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FF17-7E10-476C-8D21-A25A794E026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F603-8082-490A-9BE9-50C65128D9E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77D-9C26-4DF1-9FC2-D348A81C48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mattmckeon.com/facebook-privacy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846144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457200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n Zimmerma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S2650: Distributed Multimedia System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ll 2010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cial Networks as SI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atural slow intelligence system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sts of two entities/groups, each with own SIS characterist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N as a busine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Users of the SN for interaction with pe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ly, heavy focus on privacy due to wealth of personal information about each us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ume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85076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S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as a business, considers ways of changing its features to attract re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the past, geared towards targeted advertising which required mining users’ personal da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e user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ve choices such as continuing to use, reducing usage, leaving, increasing usage, changing privacy settings (if availa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inly due to the changes in privacy that will occu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centr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80720"/>
            <a:ext cx="82296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ecides to implement one of the strategies considered in the enumeration ph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sers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decide what their behavior will be in the future because of their preferences to priv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apt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mplements the features it decided 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is where a complimentary cycle begins of considering how the users react to the chan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sers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act to the changes according to their preferences by either altering their online habits or changing settings or information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pag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kes users aware of changes via updates to the EU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sers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voice their opinions within the network itself (as well as other mediums) with the possibility of changing others opinions by doing s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limin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cides to not pursue/consider certain options in the future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y also be elimination of features/control for us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ider it a changing of business poli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Users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me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ve the network, or become very infrequent us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etwork Petri 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Picture 3" descr="Business_Petri_Net.jpg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User Petri 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3" descr="Users_Petri_Net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3" descr="PetriNet_v1.jpg"/>
          <p:cNvPicPr/>
          <p:nvPr/>
        </p:nvPicPr>
        <p:blipFill>
          <a:blip r:embed="rId1"/>
          <a:stretch/>
        </p:blipFill>
        <p:spPr>
          <a:xfrm>
            <a:off x="838080" y="968400"/>
            <a:ext cx="7818480" cy="583236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totype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fined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5" name="Picture 3" descr="PetriNet_v2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ajor Social Network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eboo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tub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Spa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kedIn (career-bas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square (location-bas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titude (location-based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dditions to Refined Mod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ks for business policies, users, and user behavi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pacity of 1 set for all SIS components (Enumerator, Concentrator, etc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Faceboo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rted in 200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med at college stud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quired a .edu email accou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ad “segregated” networks for each schoo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hoto-sharing and tagg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uld specify your residence hall, class schedu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ebook 2.0 (2008-09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came the social network for everyone to be apart o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ddition of geographically-related networ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vacy settings related to your network member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twork X can see attribute Y about m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us Update incorpor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imilar to what Twitter was already doing for yea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cebook 3.0 (2010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cy controls no longer related to networ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vacy is controlled on granularity of friends, friends-of-friends, family, co-workers, regardless of what networks they belong 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iends can see my wall posts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amily members cannot view this photo album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argeted Advertis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cebook has always been free for its users to ac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orted by ad reven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wealth of personal info like interests in movies, music, books allows for effective advertis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 Facebook aimed to generate more revenue privacy changes occurred to allow greater access for outside vendors to 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hanges in Facebook’s Default Privacy Setting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mattmckeon.com/facebook-privacy/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formation Revel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3" descr="information_types.jpg"/>
          <p:cNvPicPr/>
          <p:nvPr/>
        </p:nvPicPr>
        <p:blipFill>
          <a:blip r:embed="rId1"/>
          <a:stretch/>
        </p:blipFill>
        <p:spPr>
          <a:xfrm>
            <a:off x="457200" y="1295280"/>
            <a:ext cx="6178680" cy="5029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6629400" y="464832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Gross, Ralph &amp; Alessandro Acquisti. “Information Revelation and Privacy in Online Social Networks”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ivacy Implic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4" descr="privacy_implications.jpg"/>
          <p:cNvPicPr/>
          <p:nvPr/>
        </p:nvPicPr>
        <p:blipFill>
          <a:blip r:embed="rId1"/>
          <a:stretch/>
        </p:blipFill>
        <p:spPr>
          <a:xfrm>
            <a:off x="228600" y="2133720"/>
            <a:ext cx="8610480" cy="18748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5"/>
          <p:cNvSpPr/>
          <p:nvPr/>
        </p:nvSpPr>
        <p:spPr>
          <a:xfrm>
            <a:off x="1600200" y="3886200"/>
            <a:ext cx="73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Source: Gross, Ralph &amp; Alessandro Acquisti. “Information Revelation and Privacy in Online Social Networks”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TextBox 6"/>
          <p:cNvSpPr/>
          <p:nvPr/>
        </p:nvSpPr>
        <p:spPr>
          <a:xfrm>
            <a:off x="609480" y="4572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al-world location “check-ins” are becoming increasingly used in network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9:49:44Z</dcterms:created>
  <dc:creator>bzimmerman</dc:creator>
  <dc:description/>
  <dc:language>en-US</dc:language>
  <cp:lastModifiedBy>Ben</cp:lastModifiedBy>
  <dcterms:modified xsi:type="dcterms:W3CDTF">2010-12-10T18:13:00Z</dcterms:modified>
  <cp:revision>51</cp:revision>
  <dc:subject/>
  <dc:title>Evolution of Privacy in Online Social Networks</dc:title>
</cp:coreProperties>
</file>